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F4F4-BCE9-4001-8578-0F955570D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271A-B1B4-4C39-9F0D-4287064B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1EC5-4DFD-4A46-B01C-FFAE17FFA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9FEE-8B7C-4F21-A49B-C834F071F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717D-E7BF-4C9E-88B1-7E40094B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F161-5E33-400E-B070-DAABEE9B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0B42-5F62-417E-B56B-2EB9E4CC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AC4D-25B9-4B76-9EDF-631B395D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DD5B-B114-4B39-8442-F6A738F9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A1C1-CF2A-40FF-93D5-22DC4D78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A9F2-CC4E-420E-85AD-452FCEB4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3A59-FA3F-4827-A06F-06FC3F24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F7DB-A709-4AB7-830C-F958A94E75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3"/>
          <p:cNvSpPr/>
          <p:nvPr/>
        </p:nvSpPr>
        <p:spPr>
          <a:xfrm>
            <a:off x="1219320" y="1295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5"/>
          <p:cNvSpPr/>
          <p:nvPr/>
        </p:nvSpPr>
        <p:spPr>
          <a:xfrm>
            <a:off x="4267080" y="3886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185440" y="5373720"/>
            <a:ext cx="3480120" cy="119124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ssage d’aujourd’h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à de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 matière de compé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576880" y="692280"/>
            <a:ext cx="5531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otre objectif dans le cadre de votre pro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otre 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futur, l’avenir de l’entrep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’est: le 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nagement des ressources technolog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2806200" y="4267080"/>
            <a:ext cx="4591080" cy="4597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 que l’on doit savoir faire de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236880" y="990720"/>
            <a:ext cx="2105640" cy="155700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ilan actu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 que l’on s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a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jourd’h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ZoneTexte 9"/>
          <p:cNvSpPr/>
          <p:nvPr/>
        </p:nvSpPr>
        <p:spPr>
          <a:xfrm>
            <a:off x="2718000" y="0"/>
            <a:ext cx="4809240" cy="459720"/>
          </a:xfrm>
          <a:prstGeom prst="rect">
            <a:avLst/>
          </a:prstGeom>
          <a:noFill/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problème des compétences pou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2"/>
          <p:cNvSpPr/>
          <p:nvPr/>
        </p:nvSpPr>
        <p:spPr>
          <a:xfrm>
            <a:off x="3809880" y="152280"/>
            <a:ext cx="22860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Recueil de données, vei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4"/>
          <p:cNvSpPr/>
          <p:nvPr/>
        </p:nvSpPr>
        <p:spPr>
          <a:xfrm>
            <a:off x="4952880" y="990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2706840" y="1523880"/>
            <a:ext cx="21700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rospective tech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4420800" y="9907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onn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8"/>
          <p:cNvSpPr/>
          <p:nvPr/>
        </p:nvSpPr>
        <p:spPr>
          <a:xfrm>
            <a:off x="3657600" y="2286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205720" y="2411280"/>
            <a:ext cx="28735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ariables clés et scé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uturs poss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304920" y="304920"/>
            <a:ext cx="190476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dit inter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 s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227520" y="990720"/>
            <a:ext cx="2105640" cy="155700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ilan act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 que l’on s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a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jourd’h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5029200" y="1523880"/>
            <a:ext cx="16765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benchma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6"/>
          <p:cNvSpPr/>
          <p:nvPr/>
        </p:nvSpPr>
        <p:spPr>
          <a:xfrm>
            <a:off x="1219320" y="1295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6858000" y="1600200"/>
            <a:ext cx="16765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utres analy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fisher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5104080" y="2514600"/>
            <a:ext cx="1438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omparai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vec con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9"/>
          <p:cNvSpPr/>
          <p:nvPr/>
        </p:nvSpPr>
        <p:spPr>
          <a:xfrm>
            <a:off x="5791320" y="2286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7150320" y="2500200"/>
            <a:ext cx="91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ide à 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éc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21"/>
          <p:cNvSpPr/>
          <p:nvPr/>
        </p:nvSpPr>
        <p:spPr>
          <a:xfrm>
            <a:off x="7620120" y="2286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838080" y="3657600"/>
            <a:ext cx="76201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hèse: roadmapp, grille de maturité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23"/>
          <p:cNvSpPr/>
          <p:nvPr/>
        </p:nvSpPr>
        <p:spPr>
          <a:xfrm>
            <a:off x="42670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3357720" y="4937040"/>
            <a:ext cx="2096280" cy="855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Établissement de la stratégie MR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enrichissement: com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Optimisation : com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Sauvegar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aba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25"/>
          <p:cNvSpPr/>
          <p:nvPr/>
        </p:nvSpPr>
        <p:spPr>
          <a:xfrm>
            <a:off x="441972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6"/>
          <p:cNvSpPr/>
          <p:nvPr/>
        </p:nvSpPr>
        <p:spPr>
          <a:xfrm>
            <a:off x="3501720" y="6172200"/>
            <a:ext cx="5110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lan d’action et listes de projets à lan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27"/>
          <p:cNvSpPr/>
          <p:nvPr/>
        </p:nvSpPr>
        <p:spPr>
          <a:xfrm>
            <a:off x="152280" y="152280"/>
            <a:ext cx="3812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29"/>
          <p:cNvSpPr/>
          <p:nvPr/>
        </p:nvSpPr>
        <p:spPr>
          <a:xfrm>
            <a:off x="5867280" y="380880"/>
            <a:ext cx="381240" cy="3812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1"/>
          <p:cNvSpPr/>
          <p:nvPr/>
        </p:nvSpPr>
        <p:spPr>
          <a:xfrm>
            <a:off x="8763120" y="6248520"/>
            <a:ext cx="304560" cy="30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3"/>
          <p:cNvSpPr/>
          <p:nvPr/>
        </p:nvSpPr>
        <p:spPr>
          <a:xfrm>
            <a:off x="4419720" y="205740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34"/>
          <p:cNvSpPr/>
          <p:nvPr/>
        </p:nvSpPr>
        <p:spPr>
          <a:xfrm>
            <a:off x="6400800" y="1981080"/>
            <a:ext cx="380880" cy="3812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35"/>
          <p:cNvSpPr/>
          <p:nvPr/>
        </p:nvSpPr>
        <p:spPr>
          <a:xfrm>
            <a:off x="8305920" y="1981080"/>
            <a:ext cx="380880" cy="3812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36"/>
          <p:cNvSpPr/>
          <p:nvPr/>
        </p:nvSpPr>
        <p:spPr>
          <a:xfrm>
            <a:off x="609480" y="3962520"/>
            <a:ext cx="38124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7"/>
          <p:cNvSpPr/>
          <p:nvPr/>
        </p:nvSpPr>
        <p:spPr>
          <a:xfrm>
            <a:off x="5181480" y="5334120"/>
            <a:ext cx="38124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38"/>
          <p:cNvSpPr/>
          <p:nvPr/>
        </p:nvSpPr>
        <p:spPr>
          <a:xfrm>
            <a:off x="3200400" y="6095880"/>
            <a:ext cx="380880" cy="3812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39"/>
          <p:cNvSpPr/>
          <p:nvPr/>
        </p:nvSpPr>
        <p:spPr>
          <a:xfrm>
            <a:off x="3200400" y="6324480"/>
            <a:ext cx="3808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40"/>
          <p:cNvSpPr/>
          <p:nvPr/>
        </p:nvSpPr>
        <p:spPr>
          <a:xfrm>
            <a:off x="5791320" y="4952880"/>
            <a:ext cx="30456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1"/>
          <p:cNvSpPr/>
          <p:nvPr/>
        </p:nvSpPr>
        <p:spPr>
          <a:xfrm>
            <a:off x="8610480" y="3733920"/>
            <a:ext cx="304920" cy="30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42"/>
          <p:cNvSpPr/>
          <p:nvPr/>
        </p:nvSpPr>
        <p:spPr>
          <a:xfrm>
            <a:off x="6400800" y="380880"/>
            <a:ext cx="30492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43"/>
          <p:cNvSpPr/>
          <p:nvPr/>
        </p:nvSpPr>
        <p:spPr>
          <a:xfrm>
            <a:off x="0" y="533520"/>
            <a:ext cx="304920" cy="30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4"/>
          <p:cNvSpPr/>
          <p:nvPr/>
        </p:nvSpPr>
        <p:spPr>
          <a:xfrm>
            <a:off x="2438280" y="1676520"/>
            <a:ext cx="304920" cy="30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5"/>
          <p:cNvSpPr/>
          <p:nvPr/>
        </p:nvSpPr>
        <p:spPr>
          <a:xfrm>
            <a:off x="2806200" y="4267080"/>
            <a:ext cx="4591080" cy="4597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 que l’on doit savoir faire de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6"/>
          <p:cNvSpPr/>
          <p:nvPr/>
        </p:nvSpPr>
        <p:spPr>
          <a:xfrm>
            <a:off x="4267080" y="3886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7"/>
          <p:cNvSpPr/>
          <p:nvPr/>
        </p:nvSpPr>
        <p:spPr>
          <a:xfrm>
            <a:off x="226800" y="5181480"/>
            <a:ext cx="2826360" cy="119124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ssage d’aujourd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À de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ur les compé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3:53:50Z</dcterms:created>
  <dc:creator>ENSGSI</dc:creator>
  <dc:description/>
  <dc:language>en-US</dc:language>
  <cp:lastModifiedBy>boly23</cp:lastModifiedBy>
  <dcterms:modified xsi:type="dcterms:W3CDTF">2011-11-24T15:14:46Z</dcterms:modified>
  <cp:revision>6</cp:revision>
  <dc:subject/>
  <dc:title>Présentation PowerPoint</dc:title>
</cp:coreProperties>
</file>